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1E3A8-3634-46F5-B1C3-38195A16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05235-AD9D-4E6C-AFF8-B4310B43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075B1-3DB4-4466-BB70-AAE92B06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220ED-236E-4E5D-B958-6C59A51D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9A3E9-1FDF-4CD5-9C18-1D727776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6FE26-294D-47C7-8257-DA78F87A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7465A-8A41-42B2-9676-C89969EC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2D091-EC30-4CD5-B640-20029C0C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15EAF-6DFF-456F-9BBC-A72BA4E7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D4CFB-1102-4792-8D99-6D3ED5E9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DD9F2-3D81-4773-B30F-163C19EB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04607-D431-4B49-9E8F-2930A680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Georgia"/>
              </a:rPr>
              <a:t>METU/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96080" y="6643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311600" y="6583320"/>
            <a:ext cx="1724040" cy="276480"/>
            <a:chOff x="7311600" y="6583320"/>
            <a:chExt cx="1724040" cy="276480"/>
          </a:xfrm>
        </p:grpSpPr>
        <p:sp>
          <p:nvSpPr>
            <p:cNvPr id="12" name=""/>
            <p:cNvSpPr/>
            <p:nvPr/>
          </p:nvSpPr>
          <p:spPr>
            <a:xfrm>
              <a:off x="7311600" y="6583320"/>
              <a:ext cx="104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200" spc="-1" strike="noStrike">
                  <a:solidFill>
                    <a:srgbClr val="000066"/>
                  </a:solidFill>
                  <a:latin typeface="Berlin Sans FB"/>
                </a:rPr>
                <a:t>Arif ÇÖM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2"/>
            <a:stretch/>
          </p:blipFill>
          <p:spPr>
            <a:xfrm>
              <a:off x="8807040" y="6616800"/>
              <a:ext cx="228600" cy="20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8280360" y="6431040"/>
            <a:ext cx="863640" cy="42696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C381-B79F-4E15-ADD1-5F58CF5B89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comek@yahoo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4360" y="28584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Tahoma"/>
              </a:rPr>
              <a:t>BİLGİSAYAR DESTEKLİ ÖĞRETİ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4365720"/>
            <a:ext cx="58323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tr-TR" sz="2400" spc="-1" strike="noStrike">
                <a:solidFill>
                  <a:srgbClr val="3333cc"/>
                </a:solidFill>
                <a:latin typeface="Tahoma"/>
              </a:rPr>
              <a:t>designed by ARİF ÇÖ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acomek@yahoo.com</a:t>
            </a:r>
            <a:r>
              <a:rPr b="1" lang="tr-TR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a50021"/>
                </a:solidFill>
                <a:latin typeface="Arial Narrow"/>
              </a:rPr>
              <a:t>Alıştırma ve Uygulama Programlarının Bilişsel 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İşlevler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Bilginin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K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ısa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S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üreli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ellekten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U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zun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S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üreli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elleğe aktarıl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Aktarılan bilginin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gerektiği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 zamanda hatırlanıp kullanılmasına yardımcı ol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Öğrencinin tekrar ve örnekler yardımı ile hatırlamasına ve öğrenmesine yardım et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S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ınıf öğretimini desteklemes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Hazırlanması en kolay olan BDE örnekleri olması nedeniyle kolay erişilebilir olmas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867280" y="2514600"/>
            <a:ext cx="21337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0" y="2362320"/>
            <a:ext cx="3886200" cy="3222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90360" y="2742840"/>
            <a:ext cx="468468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enel olarak, temel matematik ve dil uygulamaları için kullanılmışlar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Fen bilimleri eğitiminde; bilimsel şekiller, kavramlar, mikroskopun parçaları, sınıflandırma, eşitlik ayarları ve semboller gibi konularda öğrencilere yardımcı olması için kullanıl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60948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a50021"/>
                </a:solidFill>
                <a:latin typeface="Arial Narrow"/>
              </a:rPr>
              <a:t>Alıştırma ve Uygulama Programlarının Bilişsel Fonksiyonlar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038480" y="2286000"/>
            <a:ext cx="403884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294920" y="2743200"/>
            <a:ext cx="51418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Öğrenciden hızlı yanıt beklendiğinde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temel yeti ve bilgi düzeyinde kullanışlı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enellikle detaylı bir dizi oturumda kullanmak en uygunu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d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Şu andaki g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enel eğilim bireysel kullanım yönünde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Öğrenciler için uygun bir düzeye yönelik hazırlanmalı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60948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a50021"/>
                </a:solidFill>
                <a:latin typeface="Arial Narrow"/>
              </a:rPr>
              <a:t>Alıştırma ve Uygulama Programlarının Bilişsel Fonksiyonlar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re-Bir Eğitim Program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40752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ilgisayarın öğretmenin rolünü üstlendiği bilgisayara dayalı öğretim modeli -- içerik sunma, uygulama sağlama ve öğrenmeyi değerlendir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ire-bir eğitim programları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, içeriği neredeyse gerçek bir öğretmen gibi öğrenciye sunmak için kullanılır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67848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914400" y="3200400"/>
            <a:ext cx="7772400" cy="1480320"/>
            <a:chOff x="914400" y="3200400"/>
            <a:chExt cx="7772400" cy="1480320"/>
          </a:xfrm>
        </p:grpSpPr>
        <p:sp>
          <p:nvSpPr>
            <p:cNvPr id="177" name=""/>
            <p:cNvSpPr/>
            <p:nvPr/>
          </p:nvSpPr>
          <p:spPr>
            <a:xfrm>
              <a:off x="914400" y="3200400"/>
              <a:ext cx="1066680" cy="6858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Bilg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Sun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90920" y="3200400"/>
              <a:ext cx="1066680" cy="6858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Sor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Sor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1080" y="35053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7600" y="35053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34120" y="350532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3200400"/>
              <a:ext cx="1066680" cy="6858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Dönü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Sağl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86600" y="35053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20120" y="3200400"/>
              <a:ext cx="1066680" cy="6858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Sonrak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Sı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76760" y="3962520"/>
              <a:ext cx="2160" cy="5331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3400" y="4495680"/>
              <a:ext cx="2133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90760" y="434340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İpuçları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9320" y="4495680"/>
              <a:ext cx="1904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18960" y="3962520"/>
              <a:ext cx="2160" cy="5331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67080" y="3200400"/>
              <a:ext cx="1067040" cy="6858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Yanıt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Yargıl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re-Bir Eğitim Programlarının</a:t>
            </a:r>
            <a:r>
              <a:rPr b="1" lang="en-AU" sz="32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İşlev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re-Bir Eğitim Programlarının</a:t>
            </a:r>
            <a:r>
              <a:rPr b="1" lang="en-AU" sz="32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Detaylı İşlev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14400" y="2362320"/>
            <a:ext cx="7391520" cy="3429000"/>
            <a:chOff x="914400" y="2362320"/>
            <a:chExt cx="7391520" cy="3429000"/>
          </a:xfrm>
        </p:grpSpPr>
        <p:sp>
          <p:nvSpPr>
            <p:cNvPr id="194" name=""/>
            <p:cNvSpPr/>
            <p:nvPr/>
          </p:nvSpPr>
          <p:spPr>
            <a:xfrm>
              <a:off x="914400" y="2362320"/>
              <a:ext cx="1067040" cy="990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Dikk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çekme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motivasy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sağl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8640" y="2362320"/>
              <a:ext cx="1066680" cy="990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Hedefle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sun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81440" y="2895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5320" y="2895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38840" y="2438640"/>
              <a:ext cx="1066680" cy="990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Önbilgiy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hatırl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05520" y="2895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39040" y="2438640"/>
              <a:ext cx="1066680" cy="990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Ye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materya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sun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05720" y="2895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9240" y="2438640"/>
              <a:ext cx="1066680" cy="990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Öğrenmey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yönlendir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96440" y="34290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6476760" y="403884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32840" y="3865680"/>
              <a:ext cx="153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Yanlış Yanı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581280" y="403884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81640" y="403884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8120" y="4800600"/>
              <a:ext cx="1219320" cy="990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Performans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600" spc="-1" strike="noStrike">
                  <a:solidFill>
                    <a:srgbClr val="000000"/>
                  </a:solidFill>
                  <a:latin typeface="Tahoma"/>
                </a:rPr>
                <a:t>Ortay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600" spc="-1" strike="noStrike">
                  <a:solidFill>
                    <a:srgbClr val="000000"/>
                  </a:solidFill>
                  <a:latin typeface="Tahoma"/>
                </a:rPr>
                <a:t>Çıkar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5334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76920" y="4800600"/>
              <a:ext cx="1219320" cy="990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Dönü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sağl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72200" y="5334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05720" y="4800600"/>
              <a:ext cx="1219320" cy="990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Sonrak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sı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86000" y="1828800"/>
            <a:ext cx="4419720" cy="41673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u yazılımlar,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çeriği öğrenciye sundukları için bilimin herhangi bir alanında aşağıdaki nedenler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den dolayı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kullanılabili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öğrenci gerekli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ön-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ilgiye ihtiyaç duyduğunda hatırlatma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k amacıyl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öğrencinin daha fazla öğrenmek istediği durumlarda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ortamı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zenginleştirme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k amacıyl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çeriğin tüm öğrencilere tanıtılması (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u arada,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öğretmenin diğer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öğretimsel etkinliklerle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lgilenmesinde kolaylık)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amacıyl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60948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re-Bir Eğitim Programlarının</a:t>
            </a:r>
            <a:r>
              <a:rPr b="1" lang="en-AU" sz="32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lişsel İşl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09680" y="1828800"/>
            <a:ext cx="4419720" cy="41673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219320" y="2438280"/>
            <a:ext cx="586728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Sözel ve kavramsal öğrenme için iyi bir terci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Öğrencinin zamanının büyük bir kısmını harcamasını gerektirebili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ireysel ve 2-3 kişilik gruplar tarafından etkin bir biçimde kullanılabili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Öğrencinin aldığı bilgiyi uygulamasına yönelik fırsatlarla desteklenmeli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6094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re-Bir Eğitim Programlarının</a:t>
            </a:r>
            <a:r>
              <a:rPr b="1" lang="en-AU" sz="32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lişsel İşl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Benzeşim Programları (Simülasyon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4074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erçek bir durumun, olayın veya sürecin basite indirgenmiş olarak sunulmasını sağlayan bilgisayara dayalı öğretim model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erçek ortamda oluşabilecek zaman,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maliyet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ve diğer riskler gibi olumsuzlukları ortadan kaldırarak öğrenciye bilgisini gerçek bir ortamda uygulama olanağı sağ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2682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743200" y="1828800"/>
            <a:ext cx="4351320" cy="4572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Benzeşim Programları (Simülasyon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ilgisayara dayalı eğitimi bilim alanında kullanmanın en iyi yollarından biri; simülasyon bilgisayarın iyi yapabildiğini uygun bir biçimde kullanmak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Fen bilimleri eğitimi örnekleri şöyledir: genetik bilimi, kimyasal reaksiyonlar, hareket eden nesnelerin fiziği v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lgisayar Destekli Eğitim (B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D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380988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e88a00"/>
                </a:solidFill>
                <a:latin typeface="Bauhaus 93"/>
              </a:rPr>
              <a:t>Günd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ğ</a:t>
            </a: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itimde bilgisayar uygulamalar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Bilgisayar Destekli Eğitim (B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BDE’in Türle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Avantajları ve Sınırlılıklar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Araştırma Sonuçlar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33526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743200" y="1828800"/>
            <a:ext cx="4351320" cy="4572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Benzeşim Programları (Simülasyon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En uygun kullanım alanları bilginin, problem çözmenin ve düşünme yetilerinin uygulanması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Simülasyona göre ayrılan zaman dilimi kısa veya uzatılmış ol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ireysel olarak kullanılabileceği gibi, küçük öğrenci grupları içinde uygundu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Etkin kullanım için yönlendirme ve takip gerektir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Öğretici Oyunla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50292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enellikle oyun elemanlarını kapsayan şekilde uyarlanmış (örnek: alıştırma ve uygulama veya simülasyon) diğer bir bilgisayara dayalı öğretim model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enel Özellikler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varılacak bir hedef ve oyunun kurallar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duyusal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algılam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Güdüleyici unsurlar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(e.g., yarışma, ortak çalışma,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eğlenc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2870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86200" y="2514600"/>
            <a:ext cx="3827520" cy="39625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Öğretici Oyunla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u tür uygulamalar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,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genelde ilköğretim düzeyindeki öğrenciler için hazırlanm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a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ktadır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 Eğitim oyunlarının genel özellikler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Eylenerek Öğrenme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Problem Çöz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Kritik Düşün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Kavram Öğreti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Strateji Geliştir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Olgunlaş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14600" y="2133720"/>
            <a:ext cx="3581280" cy="35082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Problem Çöz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361200" cy="40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u tür BDE uygulamaları, öğrencilerin d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ş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ünme ve problem çözm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yeteneklerini geliştirmeye yönelik ve herhangi bir BDE uygulaması altında olamyan program türleri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u tür yazılımlar geneld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elirli bir alana yönelik problem durumları üzerind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ircok örnek problem ve çözümünü içeren uygulamalar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Problem çözme türü uygulamaların en sık kullanıldığı alan f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n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bilimleri eğitimidir. Ö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r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neğin,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iolojide organlar ve genetik, kimyada reaksiyonlar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,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en yaygın örnekler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76720" y="1981080"/>
            <a:ext cx="5029200" cy="41468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Etkileşimli öğrenme sağla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Anında dönüt verebilm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Sabırlı ol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Öğrenciyi güdülem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Öğretimde bir süreklilik sağla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Öğrencinin öğrenme düz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y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ine uygun öğrenme ortamı sunabilm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Her öğrencinin ihtiyacına uygun içeriğin sunul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Yeni içeriğin öğretimde birden fazla sunum formatının kullanıl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Öğrencinin performans kayıtlarının tutul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Bilgisayara Dayalı Öğretimin Avantaj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0" y="2362320"/>
            <a:ext cx="4038480" cy="3584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Bilgisayara Dayalı Öğretimin Dezavantaj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Araç-gereç ve yazılımlar pahalı olabil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DE nin geliştirilmesi ve yaygınlaştırılması zaman ve para gerektir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DE her öğrenici için uygun değil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Piyadaki eğitim yazılımlarının birç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ğ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u öğretimsel ve teknik kalite açısından yetersiz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Sürekli kullanıldığı taktirde, öğrencilerin psiko-sosyal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elişimlerini olumsuz etkiliye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Bilgisayara Dayalı Eğitim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in Etkinliği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 Hakkında 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Araştırmalar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 Ne Diyor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2057400"/>
            <a:ext cx="5257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Mic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gan Üniversitesinden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James Kulik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ve arkadaşları, BDE v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geleneksel öğretim ortamlarının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e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tkinliği üzerinde met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-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analizler yapmış ve BDE 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n genelde daha etkin olduğunu bulmuşlardır.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Geleneksel öğretim ortamlarıyla karşılaştırıldığında, BD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’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nin öğrenci başarısına et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k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isi %30 ora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ı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nda daha fazl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d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u etki daha alt kademelerdeki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sınıflarda daha y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k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365760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09680" y="2057400"/>
            <a:ext cx="4724640" cy="39466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Bilgisayara Dayalı Eğitim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in Etkinliği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 Hakkında 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Araştırmalar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 Ne Diyor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Genelde, BDE geleneksel öğretime oranla %30 daha az zamanda başarılabilmekte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DE aynı zamanda öğrencilerin bilgisayara ve konuya karşı olan tutumlarını poz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tif yönde etkilemekte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DE de öğrencinin başarısını etkileyen unsurlar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ilgisayarın kendisi değil, eğitim yazılımının teknik ve öğretimsel kalitesi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DE uy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ulamalarınd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,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öğretmenin becerisi ve yönlendirmeleride öğrenc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başarısına di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r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ek etki eden diger unsurlar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Eğitimde Bil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g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isayar Uygulama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025880"/>
            <a:ext cx="2667240" cy="2362320"/>
          </a:xfrm>
          <a:prstGeom prst="ellipse">
            <a:avLst/>
          </a:prstGeom>
          <a:solidFill>
            <a:srgbClr val="ffde9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7360" y="502920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 Narrow"/>
              </a:rPr>
              <a:t>YÖNETİM UYGULAMAL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1905120"/>
            <a:ext cx="2666880" cy="2361960"/>
          </a:xfrm>
          <a:prstGeom prst="ellipse">
            <a:avLst/>
          </a:prstGeom>
          <a:solidFill>
            <a:srgbClr val="00e4a8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320" y="2513160"/>
            <a:ext cx="25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 Narrow"/>
              </a:rPr>
              <a:t>ÖĞRETİM ARACI OLAR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Arial Narrow"/>
              </a:rPr>
              <a:t>BİLGİSAYAR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 Narrow"/>
              </a:rPr>
              <a:t>(B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3962520"/>
            <a:ext cx="2667240" cy="2361960"/>
          </a:xfrm>
          <a:prstGeom prst="ellipse">
            <a:avLst/>
          </a:prstGeom>
          <a:solidFill>
            <a:srgbClr val="00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79520" y="4876920"/>
            <a:ext cx="24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 Narrow"/>
              </a:rPr>
              <a:t>ÖĞRETİMİ DESTEKYECİ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 Narrow"/>
              </a:rPr>
              <a:t>UYGULAMA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Eğitimde Bil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g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isayar Uygulama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2362320"/>
            <a:ext cx="8763120" cy="3809880"/>
            <a:chOff x="228600" y="2362320"/>
            <a:chExt cx="8763120" cy="3809880"/>
          </a:xfrm>
        </p:grpSpPr>
        <p:sp>
          <p:nvSpPr>
            <p:cNvPr id="107" name=""/>
            <p:cNvSpPr/>
            <p:nvPr/>
          </p:nvSpPr>
          <p:spPr>
            <a:xfrm>
              <a:off x="228600" y="2362320"/>
              <a:ext cx="2743200" cy="457200"/>
            </a:xfrm>
            <a:prstGeom prst="rect">
              <a:avLst/>
            </a:prstGeom>
            <a:solidFill>
              <a:srgbClr val="17ffc2"/>
            </a:solidFill>
            <a:ln w="0">
              <a:noFill/>
            </a:ln>
            <a:effectLst>
              <a:outerShdw dist="17819" dir="2700000" blurRad="0" rotWithShape="0">
                <a:srgbClr val="0d987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Bilgisayar Destekli Eğit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48520" y="2362320"/>
              <a:ext cx="2743200" cy="4572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Öğretimi Destekleyici Ara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51160" y="2362320"/>
              <a:ext cx="2743200" cy="457200"/>
            </a:xfrm>
            <a:prstGeom prst="rect">
              <a:avLst/>
            </a:prstGeom>
            <a:solidFill>
              <a:srgbClr val="ffde9d"/>
            </a:solidFill>
            <a:ln w="0">
              <a:noFill/>
            </a:ln>
            <a:effectLst>
              <a:outerShdw dist="17819" dir="2700000" blurRad="0" rotWithShape="0">
                <a:srgbClr val="98845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Yönetim Uygulamalar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" y="2819520"/>
              <a:ext cx="76320" cy="3200400"/>
            </a:xfrm>
            <a:prstGeom prst="rect">
              <a:avLst/>
            </a:prstGeom>
            <a:solidFill>
              <a:srgbClr val="1bffc3"/>
            </a:solidFill>
            <a:ln w="0">
              <a:noFill/>
            </a:ln>
            <a:effectLst>
              <a:outerShdw dist="17819" dir="2700000" blurRad="0" rotWithShape="0">
                <a:srgbClr val="10987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51160" y="2819520"/>
              <a:ext cx="76320" cy="3200400"/>
            </a:xfrm>
            <a:prstGeom prst="rect">
              <a:avLst/>
            </a:prstGeom>
            <a:solidFill>
              <a:srgbClr val="ffde9d"/>
            </a:solidFill>
            <a:ln w="0">
              <a:noFill/>
            </a:ln>
            <a:effectLst>
              <a:outerShdw dist="17819" dir="2700000" blurRad="0" rotWithShape="0">
                <a:srgbClr val="98845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2819520"/>
              <a:ext cx="75960" cy="32004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920" y="3225960"/>
              <a:ext cx="457200" cy="0"/>
            </a:xfrm>
            <a:prstGeom prst="line">
              <a:avLst/>
            </a:prstGeom>
            <a:ln w="57240">
              <a:solidFill>
                <a:srgbClr val="17ff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5346720"/>
              <a:ext cx="457200" cy="0"/>
            </a:xfrm>
            <a:prstGeom prst="line">
              <a:avLst/>
            </a:prstGeom>
            <a:ln w="57240">
              <a:solidFill>
                <a:srgbClr val="17ff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920" y="5994360"/>
              <a:ext cx="457200" cy="0"/>
            </a:xfrm>
            <a:prstGeom prst="line">
              <a:avLst/>
            </a:prstGeom>
            <a:ln w="57240">
              <a:solidFill>
                <a:srgbClr val="17ff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7520" y="4648320"/>
              <a:ext cx="457200" cy="0"/>
            </a:xfrm>
            <a:prstGeom prst="line">
              <a:avLst/>
            </a:prstGeom>
            <a:ln w="57240">
              <a:solidFill>
                <a:srgbClr val="17ff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520" y="3962520"/>
              <a:ext cx="457200" cy="0"/>
            </a:xfrm>
            <a:prstGeom prst="line">
              <a:avLst/>
            </a:prstGeom>
            <a:ln w="57240">
              <a:solidFill>
                <a:srgbClr val="17ff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3480" y="3048120"/>
              <a:ext cx="192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Alıştırma Uygula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8000" y="375912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Bire-Bir Öğret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4840" y="444168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Benzeş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8080" y="514368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Öğretici Oyun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4280" y="5803920"/>
              <a:ext cx="15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Problem Çöz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0080" y="3251160"/>
              <a:ext cx="457200" cy="0"/>
            </a:xfrm>
            <a:prstGeom prst="line">
              <a:avLst/>
            </a:prstGeom>
            <a:ln w="57240">
              <a:solidFill>
                <a:srgbClr val="ffde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7480" y="4572000"/>
              <a:ext cx="457200" cy="0"/>
            </a:xfrm>
            <a:prstGeom prst="line">
              <a:avLst/>
            </a:prstGeom>
            <a:ln w="57240">
              <a:solidFill>
                <a:srgbClr val="ffde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27480" y="5994360"/>
              <a:ext cx="457200" cy="0"/>
            </a:xfrm>
            <a:prstGeom prst="line">
              <a:avLst/>
            </a:prstGeom>
            <a:ln w="57240">
              <a:solidFill>
                <a:srgbClr val="ffde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98080" y="30481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Ofis Otomasyon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25440" y="438156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Veri Taban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90880" y="5778360"/>
              <a:ext cx="13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Tablolaştı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24480" y="5994360"/>
              <a:ext cx="457200" cy="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480" y="4572000"/>
              <a:ext cx="457200" cy="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24480" y="3225960"/>
              <a:ext cx="457200" cy="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63400" y="306072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Ofis Uygulamalar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86000" y="441972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Çizim Programlar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75920" y="5791320"/>
              <a:ext cx="21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Yazarlık Uygulamalar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lgisay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a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r Destekli Eğitim (BD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38462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ilgisayar Destek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Eğitim, öğretimin bilgisayar kulla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ı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larak yapılması ve öğretim içeriğinin bilgisayar yoluyla aktarılması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3886200" cy="29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lgisay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a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r Destekli Eğitim (BD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3809880" cy="28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D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,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eğitimde bilgisayar kullanımı için kullanılan en eski kavramlardan biridir. Bu yüzden, farklı amaçlarla dahi olsa, eğitim ortamında bilgisayar kull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n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ımı genellikle BDE olar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a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k adlandırıl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3124080" cy="26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Yaygın BDE 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U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ygulama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419076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Alıştırma Uygulama Program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ire-bir Uygulama Program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enzeşim (Simülasyon) Program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Eğitim Oyun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Problem Çözme Program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Diğerle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00600" y="2209680"/>
            <a:ext cx="3486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Alıştırma Uygulama Program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Alıştırmalar, öğrencinin yeni öğrendiği bilgi ve becerileri kullanma olasılığını artırmak ve hali hazırdaki bilgileri ile yeni öğrendiği bilgileri ilişkilendirmesine yardım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c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ı olmak amacıyla kullanıl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u yaklaşıma göre, öğreni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l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ecek konu hali hazırda öğrencilere sunu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181480" y="2209680"/>
            <a:ext cx="3200400" cy="31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Alıştırma ve Uygulama Programlarının İşlev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27672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327672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Cev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3581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3048120"/>
            <a:ext cx="990720" cy="990360"/>
          </a:xfrm>
          <a:prstGeom prst="diamond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Doğru</a:t>
            </a:r>
            <a:r>
              <a:rPr b="1" lang="en-AU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3581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358128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327672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Pekiştire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3581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3276720"/>
            <a:ext cx="106704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24040" y="32828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Ev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3920" y="4038480"/>
            <a:ext cx="180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4038480"/>
            <a:ext cx="320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45720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1840" y="4446720"/>
            <a:ext cx="81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Tekr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D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5720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8960" y="4038480"/>
            <a:ext cx="216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3T09:15:35Z</dcterms:created>
  <dc:creator>Soner YILDIRIM</dc:creator>
  <dc:description/>
  <cp:keywords/>
  <dc:language>en-US</dc:language>
  <cp:lastModifiedBy>Aef</cp:lastModifiedBy>
  <cp:lastPrinted>2009-04-22T19:24:48Z</cp:lastPrinted>
  <dcterms:modified xsi:type="dcterms:W3CDTF">2006-03-30T12:44:24Z</dcterms:modified>
  <cp:revision>106</cp:revision>
  <dc:subject/>
  <dc:title>CA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soe.purdue.edu/~lehman/edci663/intro663.htm</vt:lpwstr>
  </property>
  <property fmtid="{D5CDD505-2E9C-101B-9397-08002B2CF9AE}" pid="9" name="LinkColor">
    <vt:r8>16711782</vt:r8>
  </property>
  <property fmtid="{D5CDD505-2E9C-101B-9397-08002B2CF9AE}" pid="10" name="MailAddress">
    <vt:lpwstr>lehman@purdue.edu</vt:lpwstr>
  </property>
  <property fmtid="{D5CDD505-2E9C-101B-9397-08002B2CF9AE}" pid="11" name="NavBtnPos">
    <vt:r8>3</vt:r8>
  </property>
  <property fmtid="{D5CDD505-2E9C-101B-9397-08002B2CF9AE}" pid="12" name="Other">
    <vt:lpwstr>Interactive Video and Multimedia presentation by James Lehman for EDCI 663 at Purdue University, Fall 1998.</vt:lpwstr>
  </property>
  <property fmtid="{D5CDD505-2E9C-101B-9397-08002B2CF9AE}" pid="13" name="OutputDir">
    <vt:lpwstr>S:\EDCI 663\cbi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